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034-53B0-47C8-A132-DDFB573C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768-83CC-4AEE-AA48-8D01F23F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198-3728-499E-A70C-FC565A0D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5F6-205B-4981-A976-4547EB16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602-935A-4CEA-BA93-24FF61E3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DC8-1904-497E-89DF-D5CA524C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5BE-F521-45C6-86BC-DCB87E80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BC0-1E15-4534-AEB1-4C99AE65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EFD-3B9F-42C1-9EE6-07FD5BB6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7EF-A230-4522-AEDB-2FA4EEAD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679-6D3E-4519-9602-3E7A56C1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71C-88DA-4CA0-A3E5-38D4A54B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85EA-4653-4DE7-B3B4-B5663B713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9/USA_09847_Grand_Canyon_Luca_Galuzzi_2007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eth, Fisher, and 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441972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05320" cy="2544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2571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4406760"/>
            <a:ext cx="3429000" cy="2451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35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o Gr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ke Tex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dalupe 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 Cany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File:USA 09847 Grand Canyon Luca Galuzzi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1981080"/>
            <a:ext cx="5181480" cy="3452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62520" y="5410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nd Can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enix, Ariz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in,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81480" y="2743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down in Austin, Tex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162560" y="3048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048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56320" y="519732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20712" y="14436"/>
                </a:moveTo>
                <a:cubicBezTo>
                  <a:pt x="20720" y="14436"/>
                  <a:pt x="20729" y="14436"/>
                  <a:pt x="20737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z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5715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 map of the U.S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3:01:00Z</dcterms:created>
  <dc:creator>fisherlucas</dc:creator>
  <dc:description/>
  <dc:language>en-US</dc:language>
  <cp:lastModifiedBy>fisherlucas</cp:lastModifiedBy>
  <dcterms:modified xsi:type="dcterms:W3CDTF">2009-04-14T13:33:21Z</dcterms:modified>
  <cp:revision>6</cp:revision>
  <dc:subject/>
  <dc:title>Southwest</dc:title>
</cp:coreProperties>
</file>